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95137350"/>
        <c:axId val="56335420"/>
      </c:barChart>
      <c:catAx>
        <c:axId val="95137350"/>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6335420"/>
        <c:crosses val="autoZero"/>
        <c:auto val="1"/>
        <c:lblAlgn val="ctr"/>
        <c:lblOffset val="100"/>
        <c:noMultiLvlLbl val="0"/>
      </c:catAx>
      <c:valAx>
        <c:axId val="56335420"/>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5137350"/>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C9DD7-E266-4692-8AAA-45FE986A2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2B9CB-E3A1-492E-8B2C-CBC000635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28C87-189E-4C15-9DDF-173B5BA59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086D3-1B44-4045-8654-99B99E68B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94984A-2647-4C1C-8D17-30ACAAFF9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8CE8B-80EF-4521-BFF5-FD6D48D5B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015B9-337C-4260-8BE6-B34084AD0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3F57A-0A7F-4CD7-AE93-B5A1A8C90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BFB6A-5E06-4D6D-A34F-CD4909372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B45DC-0788-495F-9EE1-BE9050487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4C74B-346B-4689-AC8B-E685519E7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23463-2049-4A21-94A5-50B584063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990A2-393D-450B-A16A-3C4A7AA51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AB14D-8A2C-49E1-BD53-72267A9CD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DF698-12A7-4D3A-878B-7813FA59D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4A1C1-9073-424C-99FC-D907A00AE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6DFC48-D237-4788-821A-320B97953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EB4B8-D200-4E0C-9F1F-27A48D5A6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81643-858A-45A2-AD17-ADD95D722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E9028-FBDA-4CC6-A8BB-9D197BCF8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6D70C-83C7-4630-823F-171B4A14D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0D371-4223-48E6-AB91-697DA3501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46574-A830-4E57-8202-4DF1D6D0C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BDBF8-2B66-4A75-BF7F-F6A52E833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4B9653-F586-4D4D-A6BD-F72336345A0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BA135A-70E5-48F2-B011-A9BD77925B6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